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059-8922-42D7-BD2D-5F22FD37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FE2-EE5C-489F-A49E-7A459EC6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E6B-224E-4268-B54B-5CABFC2E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5E1-21F2-481C-977F-A8D76016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5DA-0F38-487F-86B4-F1C60042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0EE-689C-4336-8CC7-291BCF7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3EB-B5C9-4923-B753-3607F1E8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A23-4531-464F-B8A0-4371476F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EDF-03CE-4D1B-BBEF-B518B138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932-ACC8-455C-87B7-CFE5642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7A3-2C1A-430B-AF13-0163F454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121-9983-4F6D-8FE9-BBAA1A7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388-914A-401F-80DB-29C5057C4A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equential Link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First Link to slide 3 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his one to slide 4 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nd this to slide 5 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Action Button: Back or Previous 3">
            <a:hlinkClick r:id="" action="ppaction://hlinkshowjump?jump=previousslide"/>
          </p:cNvPr>
          <p:cNvSpPr/>
          <p:nvPr/>
        </p:nvSpPr>
        <p:spPr>
          <a:xfrm>
            <a:off x="757224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4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Action Button: Back or Previous 3">
            <a:hlinkClick r:id="" action="ppaction://hlinkshowjump?jump=previousslide"/>
          </p:cNvPr>
          <p:cNvSpPr/>
          <p:nvPr/>
        </p:nvSpPr>
        <p:spPr>
          <a:xfrm>
            <a:off x="757224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5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Action Button: Back or Previous 3">
            <a:hlinkClick r:id="" action="ppaction://hlinkshowjump?jump=previousslide"/>
          </p:cNvPr>
          <p:cNvSpPr/>
          <p:nvPr/>
        </p:nvSpPr>
        <p:spPr>
          <a:xfrm>
            <a:off x="757224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1:26:31Z</dcterms:created>
  <dc:creator>John Wilson</dc:creator>
  <dc:description/>
  <dc:language>en-US</dc:language>
  <cp:lastModifiedBy>John Wilson</cp:lastModifiedBy>
  <dcterms:modified xsi:type="dcterms:W3CDTF">2008-03-14T11:36:41Z</dcterms:modified>
  <cp:revision>2</cp:revision>
  <dc:subject/>
  <dc:title>Sequential Links</dc:title>
</cp:coreProperties>
</file>